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7.wmf" ContentType="image/x-wmf"/>
  <Override PartName="/ppt/media/image19.wmf" ContentType="image/x-wmf"/>
  <Override PartName="/ppt/media/image1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18.wmf" ContentType="image/x-wmf"/>
  <Override PartName="/ppt/media/image10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9AAD-3031-476E-A2FA-695DBB530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51B8-6F34-4D36-871D-F64EF7A1E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5E2-4AED-462E-B1FF-4039E4EE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AE5-B0CE-44BC-B2C5-461FAA2F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A6E-1D87-4F8C-8257-C8D84BCA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1EA-C5F8-43B9-8C31-DADA33DE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3B2-6B10-4946-9980-1A69EF78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C37-B4BA-48EB-9BB6-54CC8AF1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C3D-2194-438E-90E6-085FB79A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D1B-074F-45D1-8EBF-FA8F7B0E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FBE-DDAF-4112-9F72-6D27CCB2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B41-B2F9-4EC7-8D03-403C371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2ED-AB46-48F2-846E-C6FCE682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36A-AA31-46B3-8CC1-77059442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B03A-C5E2-46C5-A584-372B8D2E5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Learning Che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88620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579132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3886200"/>
            <a:ext cx="990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5791320"/>
            <a:ext cx="9907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886200"/>
            <a:ext cx="990720" cy="82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nj.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5562720"/>
            <a:ext cx="990720" cy="82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nj.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886200"/>
            <a:ext cx="1143000" cy="82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nj.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5562720"/>
            <a:ext cx="1143000" cy="82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nj.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cids &amp; Base Definition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191120"/>
            <a:ext cx="45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ccccff"/>
                </a:solidFill>
                <a:latin typeface="Arial"/>
              </a:rPr>
              <a:t>pH scale</a:t>
            </a:r>
            <a:r>
              <a:rPr b="1" lang="en-US" sz="3000" spc="-1" strike="noStrike">
                <a:solidFill>
                  <a:srgbClr val="fcfeb9"/>
                </a:solidFill>
                <a:latin typeface="Arial"/>
              </a:rPr>
              <a:t> is a way of expressing the concentration of acids and bases.  Instead of using very small numbers, we just use the NEGATIVE power of 10 on the Molarity of the H</a:t>
            </a:r>
            <a:r>
              <a:rPr b="1" lang="en-US" sz="30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0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000"/>
            </a:br>
            <a:br>
              <a:rPr sz="2500"/>
            </a:br>
            <a:r>
              <a:rPr b="0" lang="en-US" sz="25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2500"/>
            </a:br>
            <a:r>
              <a:rPr b="0" lang="en-US" sz="25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cfeb9"/>
                </a:solidFill>
                <a:latin typeface="Arial"/>
              </a:rPr>
              <a:t>7 = neutral</a:t>
            </a:r>
            <a:br>
              <a:rPr sz="2500"/>
            </a:br>
            <a:r>
              <a:rPr b="0" lang="en-US" sz="2500" spc="-1" strike="noStrike">
                <a:solidFill>
                  <a:srgbClr val="fcfeb9"/>
                </a:solidFill>
                <a:latin typeface="Arial"/>
              </a:rPr>
              <a:t>  Over 7 = b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feb9"/>
                </a:solidFill>
                <a:latin typeface="Arial"/>
              </a:rPr>
              <a:t>Calculating the 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eb9"/>
                </a:solidFill>
                <a:latin typeface="Arial"/>
              </a:rPr>
              <a:t>Try Thes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0.15 M solution of Hydrochloric ac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1752480"/>
            <a:ext cx="4191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425160" indent="-425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99"/>
                </a:solidFill>
                <a:latin typeface="Arial"/>
              </a:rPr>
              <a:t>pH = - log [H</a:t>
            </a:r>
            <a:r>
              <a:rPr b="0" lang="en-US" sz="30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cc99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- log 0.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- (- 0.8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0.82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- log 3 X 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- (- 6.5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6.5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pH calculations – Solving for H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0" lang="en-US" sz="2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*** to find antilog on your calculator, look for “Shift” or “2</a:t>
            </a:r>
            <a:r>
              <a:rPr b="0" lang="en-US" sz="2600" spc="-1" strike="noStrike" baseline="30000">
                <a:solidFill>
                  <a:srgbClr val="3333cc"/>
                </a:solidFill>
                <a:latin typeface="Arial"/>
              </a:rPr>
              <a:t>nd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function” and then the log but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More About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AUTOIONIZ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674640" y="5405400"/>
            <a:ext cx="776556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1.00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More About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40381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neutral solution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so [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] =  [O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]  = 1.00 x 1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7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9" name="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p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0" lang="en-US" sz="35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roduce H</a:t>
            </a:r>
            <a:r>
              <a:rPr b="1" lang="en-US" sz="23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(as 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3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) ions in water  (the hydronium ion is a hydrogen ion attached to a water molecul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aste sour           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rrode meta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lectrolytes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React with bases to form a salt and water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H is less than 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urns blue litmus paper to red  “Blue to Red A-CID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[H</a:t>
            </a:r>
            <a:r>
              <a:rPr b="0" lang="en-US" sz="4800" spc="-1" strike="noStrike" baseline="-25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O</a:t>
            </a:r>
            <a:r>
              <a:rPr b="0" lang="en-US" sz="4800" spc="-1" strike="noStrike" baseline="30000">
                <a:solidFill>
                  <a:srgbClr val="ccccff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], [OH</a:t>
            </a:r>
            <a:r>
              <a:rPr b="0" lang="en-US" sz="4800" spc="-1" strike="noStrike" baseline="30000">
                <a:solidFill>
                  <a:srgbClr val="ccccff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] and p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pOH = - log 0.00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pOH = 3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pH  = 14 – 3 = 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9080" y="320760"/>
            <a:ext cx="818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pH of a 2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54160" y="878040"/>
            <a:ext cx="597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a strong acid – 100% disso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68200" y="1903320"/>
            <a:ext cx="6269400" cy="510120"/>
            <a:chOff x="1168200" y="1903320"/>
            <a:chExt cx="6269400" cy="510120"/>
          </a:xfrm>
        </p:grpSpPr>
        <p:sp>
          <p:nvSpPr>
            <p:cNvPr id="146" name=""/>
            <p:cNvSpPr/>
            <p:nvPr/>
          </p:nvSpPr>
          <p:spPr>
            <a:xfrm>
              <a:off x="1168200" y="1903320"/>
              <a:ext cx="626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HNO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NO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24360" y="2143080"/>
              <a:ext cx="6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162800" y="2981160"/>
            <a:ext cx="63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 = -log [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] = -log [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] = -log(0.002) = 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9320" y="1486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1120" y="2286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680" y="14860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02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284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02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40280" y="2284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02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08880" y="22845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14040" y="1484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09480" y="1484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2280" y="3355920"/>
            <a:ext cx="8947440" cy="1368360"/>
            <a:chOff x="152280" y="3355920"/>
            <a:chExt cx="8947440" cy="1368360"/>
          </a:xfrm>
        </p:grpSpPr>
        <p:sp>
          <p:nvSpPr>
            <p:cNvPr id="158" name=""/>
            <p:cNvSpPr/>
            <p:nvPr/>
          </p:nvSpPr>
          <p:spPr>
            <a:xfrm>
              <a:off x="919080" y="3600360"/>
              <a:ext cx="8180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the pH of a 1.8 x 10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-2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Ba(OH)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olu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152280" y="335592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1153440" y="4191120"/>
            <a:ext cx="642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a strong base – 100% disso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56680" y="5103720"/>
            <a:ext cx="5323680" cy="510120"/>
            <a:chOff x="1156680" y="5103720"/>
            <a:chExt cx="5323680" cy="510120"/>
          </a:xfrm>
        </p:grpSpPr>
        <p:sp>
          <p:nvSpPr>
            <p:cNvPr id="162" name=""/>
            <p:cNvSpPr/>
            <p:nvPr/>
          </p:nvSpPr>
          <p:spPr>
            <a:xfrm>
              <a:off x="1156680" y="5103720"/>
              <a:ext cx="532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Ba(OH)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 Ba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2O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1040" y="53434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9320" y="4686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1120" y="5486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39680" y="46864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18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92440" y="54849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18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40000" y="54849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36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8880" y="54849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61640" y="4684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09200" y="4684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4800" y="6019920"/>
            <a:ext cx="65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 = 14.00 – pOH = 14.00 + log(0.036) = 12.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883720" y="6384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of section 8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page 5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feb9"/>
                </a:solidFill>
                <a:latin typeface="Arial"/>
              </a:rPr>
              <a:t>Some Properties of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roduce OH</a:t>
            </a:r>
            <a:r>
              <a:rPr b="1" lang="en-US" sz="25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ions in wa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aste bitter, chalk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re electroly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Feel soapy, slipper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React with acids to form salts and wa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H greater than 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urns red litmus paper to blue     “</a:t>
            </a:r>
            <a:r>
              <a:rPr b="1" lang="en-US" sz="2500" spc="-1" strike="noStrike">
                <a:solidFill>
                  <a:srgbClr val="00279f"/>
                </a:solidFill>
                <a:latin typeface="Times New Roman"/>
              </a:rPr>
              <a:t>B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sic </a:t>
            </a:r>
            <a:r>
              <a:rPr b="1" lang="en-US" sz="2500" spc="-1" strike="noStrike">
                <a:solidFill>
                  <a:srgbClr val="00279f"/>
                </a:solidFill>
                <a:latin typeface="Times New Roman"/>
              </a:rPr>
              <a:t>B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lue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1120" y="1066680"/>
            <a:ext cx="77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henius 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 a substance that produces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9000" y="2819520"/>
            <a:ext cx="759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heniu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 substance that dissociate in water to produ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ydroxide ions, O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152280"/>
            <a:ext cx="3962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cfeb9"/>
                </a:solidFill>
                <a:latin typeface="Arial"/>
              </a:rPr>
              <a:t>Acid/Base defini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Definition 1: Arrhen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0574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 (aq)                       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80988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+  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724280"/>
            <a:ext cx="7315200" cy="15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 Some substances acted as bases and didn’t contain hydroxide ions (OH)  ex: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is only works when water is the solv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eb9"/>
                </a:solidFill>
                <a:latin typeface="Arial"/>
              </a:rPr>
              <a:t>Acid/Bas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finition #2: Brønsted – Lowry (our focu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ids – proton don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ases – proton accep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“proton” is really just a hydrogen atom that has lost its electron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donor needs an acceptor so the acid an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base must always be present togeth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id-base pairs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ID-BASE THE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04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BA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AC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85" name="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438280" y="388620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Arial"/>
              </a:rPr>
              <a:t>Conjugate Pai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5715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and its conjugate base are linked by a transfer of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20:14:37Z</dcterms:created>
  <dc:creator>J. David Robertson</dc:creator>
  <dc:description/>
  <dc:language>en-US</dc:language>
  <cp:lastModifiedBy>C363966</cp:lastModifiedBy>
  <dcterms:modified xsi:type="dcterms:W3CDTF">2014-03-31T19:20:31Z</dcterms:modified>
  <cp:revision>51</cp:revision>
  <dc:subject/>
  <dc:title>Acids and Bases</dc:title>
</cp:coreProperties>
</file>